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237C-FDB0-415E-BB97-674F09432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0730-1DEE-4C16-976A-4FB2ABCD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AC4B-82B8-40AC-938D-9B6378264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07A5-A613-48D1-942D-C5A317E2E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E552-A572-4C9F-A67B-14DD21F4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FA69-6E71-4E3D-A883-8C648C65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E2AC-DC95-4D0B-B384-48F1F9FB9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2891-59EA-4C5C-BDEA-A5132239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25F8-66F5-45E1-A5C5-519D4E65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E61B-9F8B-4B3F-98FC-57055523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EC78-BF45-4C4A-A831-56B94F1C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455A-74E6-45E3-ACD9-BDDE2330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EF99-323E-49F8-9780-74BA4A653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reeplaymusic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.mit.edu/invent/iow/cooper.html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www.cooper.edu/engineering/chemechem/general/cooper.html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3520" y="228600"/>
            <a:ext cx="7696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Jell-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5105520" y="3429000"/>
            <a:ext cx="4038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Century Gothic"/>
              </a:rPr>
              <a:t>Broo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Century Gothic"/>
              </a:rPr>
              <a:t>March 8,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Century Gothic"/>
              </a:rPr>
              <a:t>Perio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Century Gothic"/>
              </a:rPr>
              <a:t>Computer #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562720"/>
            <a:ext cx="4191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nd: Free Play Music, Clear, March 11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reeplaymusic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371600" y="47242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Cooper"/>
          <p:cNvPicPr/>
          <p:nvPr/>
        </p:nvPicPr>
        <p:blipFill>
          <a:blip r:embed="rId1"/>
          <a:stretch/>
        </p:blipFill>
        <p:spPr>
          <a:xfrm>
            <a:off x="0" y="0"/>
            <a:ext cx="1981080" cy="2971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76720" y="1981080"/>
            <a:ext cx="5867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Jell-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arch 9, 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coope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30492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Peter Cooper and his wife came up with the name for his delicious fruit-flavored dessert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66cc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294600" y="3429000"/>
            <a:ext cx="258264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5486400"/>
            <a:ext cx="5943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er Cooper and His Legacy, Prof. Robert Q. Topper, March 9, 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cooper.edu/engineering/chemechem/general/coope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7339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Peter Cooper was a man who donated money to worthy causes like museums and char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J</a:t>
            </a: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e</a:t>
            </a:r>
            <a:r>
              <a:rPr b="0" lang="en-US" sz="4400" spc="-1" strike="noStrike">
                <a:solidFill>
                  <a:srgbClr val="ff66cc"/>
                </a:solidFill>
                <a:latin typeface="Arial"/>
              </a:rPr>
              <a:t>l</a:t>
            </a: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l</a:t>
            </a: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-</a:t>
            </a: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J</a:t>
            </a: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e</a:t>
            </a:r>
            <a:r>
              <a:rPr b="0" lang="en-US" sz="3600" spc="-1" strike="noStrike">
                <a:solidFill>
                  <a:srgbClr val="ff66cc"/>
                </a:solidFill>
                <a:latin typeface="Arial"/>
              </a:rPr>
              <a:t>l</a:t>
            </a: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l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9900cc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deliciou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fruit-flavored desser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J</a:t>
            </a: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e</a:t>
            </a:r>
            <a:r>
              <a:rPr b="0" lang="en-US" sz="3600" spc="-1" strike="noStrike">
                <a:solidFill>
                  <a:srgbClr val="ff66cc"/>
                </a:solidFill>
                <a:latin typeface="Arial"/>
              </a:rPr>
              <a:t>l</a:t>
            </a: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l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9900cc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made mainly of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gelati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but includes many other ingredients as we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y 1906,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J</a:t>
            </a: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e</a:t>
            </a:r>
            <a:r>
              <a:rPr b="0" lang="en-US" sz="3600" spc="-1" strike="noStrike">
                <a:solidFill>
                  <a:srgbClr val="ff66cc"/>
                </a:solidFill>
                <a:latin typeface="Arial"/>
              </a:rPr>
              <a:t>l</a:t>
            </a: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l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9900cc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les reached about 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$1,000,00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</a:t>
            </a: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Peter Coo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Peter Coop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r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New York C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Peter Coop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as born o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ebruary 12, 179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845,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Peter Coop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tained the patent for the manufacture of </a:t>
            </a:r>
            <a:r>
              <a:rPr b="0" lang="en-US" sz="2800" spc="-1" strike="noStrike">
                <a:solidFill>
                  <a:srgbClr val="ff66cc"/>
                </a:solidFill>
                <a:latin typeface="Arial"/>
              </a:rPr>
              <a:t>gelat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859,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Peter Coop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stablished New York’s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ooper Institute for the Advancement of Science and A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it is still up and running to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Peter Coop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pril 4, 188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Peter Coop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ved to be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9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ears o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Peter Coop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as a 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philanthrop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is someone who makes charitable donations intended to increase human well-be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4:14:53Z</dcterms:created>
  <dc:creator>install</dc:creator>
  <dc:description/>
  <dc:language>en-US</dc:language>
  <cp:lastModifiedBy>install</cp:lastModifiedBy>
  <dcterms:modified xsi:type="dcterms:W3CDTF">2010-03-18T13:41:13Z</dcterms:modified>
  <cp:revision>10</cp:revision>
  <dc:subject/>
  <dc:title>Slide 1</dc:title>
</cp:coreProperties>
</file>